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DB55-7399-40F9-88B8-C6CB8CB6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EE3-0779-40C3-A923-2FCF2EDE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D3F-17A0-4DBE-94EC-227C6B4C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0EF-2762-4AFF-B3D8-3F8FEFA8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95B3-6DC7-45D7-9A28-EB506156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A182-8698-4CBA-B39B-049573A4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2CFA-B028-4D5A-A9CB-77672BA9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9676-98BE-4C4D-82D4-1B6BBCF8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BA41-1891-487E-A7D0-5DB71AA3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9472-EE68-4585-B9F7-CCC5BA04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6BAF-9D74-4F80-8DF3-08A483D6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E31-62BB-49FB-96E6-1A345368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8A06-66D9-4DC3-82C2-D396049C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53E7-B0DA-495D-8CD5-DE15576B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3C6A-3038-4C64-A299-BCFC9DAE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B093-4385-48B4-81C8-2C606E79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C14F-7455-4B68-9FE6-B0FA6E2B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689D-856A-4863-B31A-8B8FA24A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4B45-6334-49F0-AF1F-F5F85581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5DC1-A042-49E5-A5AD-6D1283CE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AC99-2F4B-497C-9810-EF1FCB55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1BD0-CCB1-4644-9D74-947D27E6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CE5-8661-4548-94E3-CEAD09A0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744-099A-40D1-99A0-64EF6977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2F7C-DC3B-4BF0-8A75-783A70C856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2A72-65E8-4393-BA14-9749E96CF7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Instructional Design Basic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-Enhanced Learn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structional Design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Definition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al Design (ID) is a systematic process of planning, developing, managing, and evaluating the instructional process effectively to ensure effective lea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Basic ID concern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student’s strengths and weaknesses in terms of what they know and how they lea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learning resources are avail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uch time do you have to complete the less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you want students to learn in this lesson ( your learning objective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you know if the students learned what they were supposed to lea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Basic ID concern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you structure the learning so that the learning objectives are achieved? What strategies will you emplo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student workload: What combination of activities will enable students to master the content and develop the skills targeted by the lesson in the most efficient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teaching workload: ICT-supported teaching means a change in the organization and management of teaching – there is more work at the “front end” of teaching (design &amp; develop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ystem approach ID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286000"/>
            <a:ext cx="990720" cy="16765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1676520"/>
            <a:ext cx="1219320" cy="838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1676520"/>
            <a:ext cx="129528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2895480"/>
            <a:ext cx="1066680" cy="10670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2895480"/>
            <a:ext cx="990720" cy="10670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2895480"/>
            <a:ext cx="91440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53080" y="2133720"/>
            <a:ext cx="1067040" cy="2209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2133720"/>
            <a:ext cx="914400" cy="2209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495680"/>
            <a:ext cx="121932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ers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4800600"/>
            <a:ext cx="1143000" cy="1143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143000" y="1980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1981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3962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39621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40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296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029200" y="18288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3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885840" y="4572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048120" y="5334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04040" y="5621400"/>
            <a:ext cx="186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Dick and Carey, 19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Objectives of ICT-enhanced learnin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gnitive Skills (Levels of Thin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ical Literacy: Knowledge about what technology is, how it works, what purposes it can serve, and how it can be used efficiently and effectively to achieve specific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http://wwwncrel.org/engauge/skills/techlt.h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Literacy; ability to locate, evaluate, and use information to become independent, life-long learner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mmission on Colleges, Southern Association of Colleges &amp; schoo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Objectives of ICT-enhanced learnin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vity: Making something new, original, and of value personally and cultur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&amp; Decision-making: Ability to structure tasks &amp; activities and make decisions to achieve goals efficiently &amp;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ing &amp; collaboration: Cooperation between two or more individuals to solve problems, create new products, or learn &amp; master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Objectives of ICT-enhanced learnin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 Sensitivity: Awareness &amp; respect for differences in customs, values &amp; perspectives among different peoples 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wareness: Recognition &amp; understanding of the inter-connectedness of people &amp; institutions – political, economic, social – all over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http://wwwncrel.org/engauge/skills/techlt.h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Cognitive skill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1828800"/>
            <a:ext cx="3200400" cy="3886200"/>
          </a:xfrm>
          <a:prstGeom prst="triangle">
            <a:avLst>
              <a:gd name="adj" fmla="val 5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72880" y="2438280"/>
            <a:ext cx="79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22400" y="304812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98720" y="34545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44197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22400" y="39877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4952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26400" y="445608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46440" y="51055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95080" y="2362320"/>
            <a:ext cx="24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16960" y="514188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Order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5410080" y="2895480"/>
            <a:ext cx="13716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59:48Z</dcterms:created>
  <dc:creator>frc</dc:creator>
  <dc:description/>
  <dc:language>en-US</dc:language>
  <cp:lastModifiedBy>frc</cp:lastModifiedBy>
  <dcterms:modified xsi:type="dcterms:W3CDTF">2001-12-31T17:32:51Z</dcterms:modified>
  <cp:revision>4</cp:revision>
  <dc:subject/>
  <dc:title>Instructional Design Basics</dc:title>
</cp:coreProperties>
</file>